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7266-3744-4E90-AA06-5D4AEDD514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дяка Др Стіву Коур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боргованість перед бюджетом. Експерти читають сотні заявок в обмеженому час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йві сторінки просто не читаються, а в них може бути ключова інф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 саме про поточну ситуацію, проблеми, стратегічні докумен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ект починає діяти з наступного дня після підписання контракту. Вам треба найняти працівників, а ви не можете, бо нема грошей на рахунку (бюджет), в 1й місяць вам треба поїхати у відрядження за кордон, а ви не можете, бо це зараз заборонено ще прикл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йняття бюджетників на ро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і помилки типові не лише для всіх проектних заявок, але й для інших ситуацій – студентські заявки, заявки на роботу, персональні гранти. Твердження без доказів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E53-CC16-4CC0-874A-E554A663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6F0-9774-4A30-9906-F0BA8825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662-FE72-4E52-A912-0B8184AB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ED4-A2E9-41DA-858C-8BC176E5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38EE-E2CF-4FEF-8D8C-42566558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C16-47D9-4C6D-929C-52615E52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38A-B6DB-48D4-B6BE-F23811E4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882-1B33-4CB1-8B96-55C5CD2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E87-7DAA-4F58-A285-F0FA4BC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89E-3171-4640-B828-98C6F6B2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280-F787-409A-B938-ADF6CDE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758-0087-4157-9E2C-62412499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D4CB-7787-4367-A504-4CB588DD8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ідготовка успішної проектної зая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тяна Лебухо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еджер проектів, тре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4809960"/>
            <a:ext cx="2200320" cy="9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86200" y="4800600"/>
            <a:ext cx="472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ковинська агенція регіонального розви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явники не читають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дотримуються інструкці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8077320" cy="4343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а програми, її цілі, пріорит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ритерії прийнятності (заявник, ді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меження розміру пунктів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формлення за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-ть екземплярів, супровідні докум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длайн (кінцевий термі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вердження без доказ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глядають непереконли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752480"/>
            <a:ext cx="8077320" cy="4343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ишіть досвід вашої організації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фері проектної пропози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ша організація має знач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освід роботи у сфері тур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або деталізовані заходи (дії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 гарантують досягнення впли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752480"/>
            <a:ext cx="8077320" cy="3200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івень деталізації залежить ві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жливості кожного окремого зах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 загальної кількості заход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ксимального обсягу дозволе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к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ливу на результати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257800"/>
            <a:ext cx="815364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ішення приймаєте ви, але ваш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та – переконати експерті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3808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івняння 2х твердж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324080"/>
            <a:ext cx="8229600" cy="1724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ідвищення кваліфікації персона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сцевих готелів буде проведений трені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352680"/>
            <a:ext cx="8229600" cy="3048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підвищення якості послуг готел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де проведений Х-денний тренінг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івників Y готелів. Для провед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енінгу буде залучений тренер Z , щ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є досвід (…). Під час тренінгу буд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нуті так питання (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узгодженість окремих час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явки призводить до плутан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752480"/>
            <a:ext cx="8077320" cy="19814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на заявка пишеться протя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валого періоду часу (можливо і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лученням кількох людей), а експе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тає проект всього кілька г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9200" y="3962520"/>
            <a:ext cx="7991280" cy="2438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результатах проекту написа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веб-сайт як основний ка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ширення інформації про проект, 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конайтесь, що ви описали веб-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заходах та бюдже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380880"/>
            <a:ext cx="81532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узгодженість окремих час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явки призводить до плутани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209680"/>
            <a:ext cx="7848720" cy="35053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йте однакову термінологі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всьому проекті (курси/тренінг/шко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читайте всю проектну зая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учіть “власного експерт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плив = мета + зах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0" y="148608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46708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486240"/>
            <a:ext cx="35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пл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14360" y="1295280"/>
            <a:ext cx="7448760" cy="8384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 проекту – покращити навики роботи з меді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цівників організа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8680" y="2276640"/>
            <a:ext cx="7839000" cy="9903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 плануємо провести 5-денний тренінг для на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цівників для покращення навиків роботи з меді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400560"/>
            <a:ext cx="7819920" cy="8953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 очікуємо, що проект вплине на покращ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иків роботи з медіа наших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4240" y="3514680"/>
            <a:ext cx="3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28680" y="4410000"/>
            <a:ext cx="7819920" cy="8953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конан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що проект мати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ли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ащення навиків роботи з медіа наших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4240" y="4540320"/>
            <a:ext cx="3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66840" y="5419800"/>
            <a:ext cx="7819920" cy="1295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рантує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що проект мати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ли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ращення навиків роботи з медіа наших працівник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 забезпечи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ліс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айбутнь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4240" y="5759280"/>
            <a:ext cx="3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алість проек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95440" y="1523880"/>
            <a:ext cx="6505560" cy="4724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14440" y="3581280"/>
            <a:ext cx="609840" cy="19051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38640" y="2305080"/>
            <a:ext cx="609480" cy="3181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800360" y="1904760"/>
            <a:ext cx="0" cy="356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47720" y="54100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76520" y="5410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2600" y="3162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30720" y="2781360"/>
            <a:ext cx="47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0520" y="23144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92600" y="316224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349800" y="27813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806640" y="2324160"/>
            <a:ext cx="12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00360" y="5486400"/>
            <a:ext cx="5667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53280" y="1828800"/>
            <a:ext cx="581040" cy="3695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0292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авте себе на місце експе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680" y="1390680"/>
            <a:ext cx="8153280" cy="4857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овуйте можливі способ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формлення тексту (абзаци, табуляці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ділення жирним чи курсив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аблична чи графічна інформ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риймається лег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к оцінює заявку експе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1333440"/>
            <a:ext cx="8153280" cy="9525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кісна проектна заявка, складена 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триманням всіх вимог та інструк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362320"/>
            <a:ext cx="8153280" cy="9525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роша ідея, достатньо деталізов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стить переконливі аргумен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2880" y="3514680"/>
            <a:ext cx="8153280" cy="9525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понований проект буде кваліфікова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алізований та матиме значний вп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4572000"/>
            <a:ext cx="8115120" cy="752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удовий проект за такі грош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680" y="5457960"/>
            <a:ext cx="8153280" cy="9522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кращий проект в моїй практиц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590400"/>
            <a:ext cx="8763120" cy="1143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ілософія успішної проектної зая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133720"/>
            <a:ext cx="7925040" cy="2438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залежить від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н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залежить від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залежить від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и проек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23800" y="181080"/>
            <a:ext cx="8153640" cy="9525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ектна заявка перемог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7631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рудові ресур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815328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адова інструкція праців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и та працівника проек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3526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рівник проекту – найміть професіон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19112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heet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не просто таб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440" y="50292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diem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не добо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58672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ідрядження за кордон, одноде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2880" y="2562120"/>
            <a:ext cx="8153280" cy="7146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п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дбання ТМЦ, по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54296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ндери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3434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ПД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5146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іаліст по закуп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2880" y="5257800"/>
            <a:ext cx="8153280" cy="971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єстрація проекту як міжнародн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іч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34290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сність після завершення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фісні вит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3716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ідокремлений офі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2880" y="22096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унальні по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2600" y="304812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нцелярська продук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2880" y="419112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Інші вит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1040" y="502920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ксп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" y="5867280"/>
            <a:ext cx="815364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Ін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25756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ація англійською мо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880" y="315288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вноважений підпис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3800" y="4105440"/>
            <a:ext cx="815364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ціональне законода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2600" y="5048280"/>
            <a:ext cx="81532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ізуалізація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343160"/>
            <a:ext cx="815328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і назви статей, одиниці вимі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380880"/>
            <a:ext cx="8153280" cy="6858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 чого розпоча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542960"/>
            <a:ext cx="861048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іторинг оголошених конкурс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438280"/>
            <a:ext cx="860112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єстрація в базах даних пошуку партне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390840"/>
            <a:ext cx="8620200" cy="762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ь в проекті в якості партне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334040"/>
            <a:ext cx="8591400" cy="7617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лобюджетні про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00480" y="4191120"/>
            <a:ext cx="6743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етяна Лебухо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tiana.lebukhorska@bard.cv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@bard.cv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+38 050 132 03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1752480"/>
            <a:ext cx="76197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Вдалих ідей 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успішних проекті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228600"/>
            <a:ext cx="8839440" cy="14479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ілософія успішної проектної заяв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фінансування від Євросоюз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981080"/>
            <a:ext cx="8076960" cy="1295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а мета не описати хорошу проект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ідею, 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конати дати гроші в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2600" y="3429000"/>
            <a:ext cx="8076960" cy="12952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ому повинні дати гроші вам, якщ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д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гато якісних проектних заяво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876920"/>
            <a:ext cx="8839440" cy="15429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а філософія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нкурентоспромож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ша філософія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краща зая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457200"/>
            <a:ext cx="8077320" cy="23623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а проектної заявки повин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рияти досягненню мети програ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ка завжди вказана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рективних документ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9000" y="3705120"/>
            <a:ext cx="3276720" cy="1752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к визначи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695760"/>
            <a:ext cx="3276720" cy="17524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457200"/>
            <a:ext cx="8077320" cy="1143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Що таке проектна заяв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828800"/>
            <a:ext cx="5638680" cy="43624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56080"/>
            <a:ext cx="609480" cy="1904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77040" y="2286000"/>
            <a:ext cx="609480" cy="31813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3143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52920" y="2762280"/>
            <a:ext cx="47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272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14800" y="314316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27622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028840" y="2305080"/>
            <a:ext cx="12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581280"/>
            <a:ext cx="304560" cy="1892520"/>
          </a:xfrm>
          <a:custGeom>
            <a:avLst/>
            <a:gdLst>
              <a:gd name="textAreaLeft" fmla="*/ 89640 w 304560"/>
              <a:gd name="textAreaRight" fmla="*/ 304920 w 304560"/>
              <a:gd name="textAreaTop" fmla="*/ 78840 h 1892520"/>
              <a:gd name="textAreaBottom" fmla="*/ 1813680 h 189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24640" y="2305080"/>
            <a:ext cx="257040" cy="1295280"/>
          </a:xfrm>
          <a:custGeom>
            <a:avLst/>
            <a:gdLst>
              <a:gd name="textAreaLeft" fmla="*/ 0 w 257040"/>
              <a:gd name="textAreaRight" fmla="*/ 180360 w 25704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86000" y="5466960"/>
            <a:ext cx="495288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86000" y="1923840"/>
            <a:ext cx="0" cy="356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54975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7840" y="5516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495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57560" y="4114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валість про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26668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267080" y="1752480"/>
            <a:ext cx="4591080" cy="4496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57200"/>
            <a:ext cx="838188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ект повинен мат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начний впл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86440" y="3556080"/>
            <a:ext cx="609480" cy="1904760"/>
          </a:xfrm>
          <a:prstGeom prst="rect">
            <a:avLst/>
          </a:prstGeom>
          <a:gradFill rotWithShape="0">
            <a:gsLst>
              <a:gs pos="0">
                <a:srgbClr val="008000">
                  <a:alpha val="45098"/>
                </a:srgbClr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58160" y="2286000"/>
            <a:ext cx="609480" cy="3181320"/>
          </a:xfrm>
          <a:prstGeom prst="rect">
            <a:avLst/>
          </a:prstGeom>
          <a:gradFill rotWithShape="0">
            <a:gsLst>
              <a:gs pos="0">
                <a:srgbClr val="008000">
                  <a:alpha val="46274"/>
                </a:srgbClr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05760" y="2305080"/>
            <a:ext cx="257040" cy="1295280"/>
          </a:xfrm>
          <a:custGeom>
            <a:avLst/>
            <a:gdLst>
              <a:gd name="textAreaLeft" fmla="*/ 0 w 257040"/>
              <a:gd name="textAreaRight" fmla="*/ 180360 w 25704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5466960"/>
            <a:ext cx="411480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572000" y="1904760"/>
            <a:ext cx="0" cy="356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10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5410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903200">
            <a:off x="5352840" y="2630160"/>
            <a:ext cx="1658880" cy="457200"/>
          </a:xfrm>
          <a:prstGeom prst="rightArrow">
            <a:avLst>
              <a:gd name="adj1" fmla="val 50000"/>
              <a:gd name="adj2" fmla="val 90709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752480"/>
            <a:ext cx="3809880" cy="4496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знач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оточної ситу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інцевої м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пособ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ягнення м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733920"/>
            <a:ext cx="3504960" cy="609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наліз потреб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648320"/>
            <a:ext cx="3429000" cy="609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наліз вплив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6248520"/>
            <a:ext cx="3124080" cy="609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лан заход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676520"/>
            <a:ext cx="8381880" cy="45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4920" y="1676520"/>
            <a:ext cx="8381880" cy="45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267080" y="1752480"/>
            <a:ext cx="4591080" cy="4496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57200"/>
            <a:ext cx="838188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ормат успішної пропози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86440" y="3556080"/>
            <a:ext cx="609480" cy="1904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2286000"/>
            <a:ext cx="609840" cy="3181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05760" y="2305080"/>
            <a:ext cx="257040" cy="1295280"/>
          </a:xfrm>
          <a:custGeom>
            <a:avLst/>
            <a:gdLst>
              <a:gd name="textAreaLeft" fmla="*/ 0 w 257040"/>
              <a:gd name="textAreaRight" fmla="*/ 180360 w 25704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5466960"/>
            <a:ext cx="4114800" cy="1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1904760"/>
            <a:ext cx="0" cy="356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5410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5410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ерш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52480"/>
            <a:ext cx="3886200" cy="4496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і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знач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де ми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ого хочем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яг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кретні к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ідтверд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пл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64240" y="3162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02360" y="2781360"/>
            <a:ext cx="47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216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664240" y="3162240"/>
            <a:ext cx="0" cy="40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121440" y="278136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578280" y="2324160"/>
            <a:ext cx="126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457200"/>
            <a:ext cx="838188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 це в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86000"/>
            <a:ext cx="3505320" cy="2286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$$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2286000"/>
            <a:ext cx="3810240" cy="2286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п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артість прое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бюдж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200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952880"/>
            <a:ext cx="83818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йкраща якість за певну су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457200"/>
            <a:ext cx="868680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ові проблеми проектних зая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523880"/>
            <a:ext cx="72388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вники не читають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дотримуються інструкц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00080" y="2781360"/>
            <a:ext cx="7238880" cy="1104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ердження без доказ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глядають непереконли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09800" y="4105440"/>
            <a:ext cx="7238880" cy="1104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або деталізовані заходи (дії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гарантують досягнення впл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9800" y="5448240"/>
            <a:ext cx="7219800" cy="11048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узгодженість окремих час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вки призводить до плутани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Zheg</cp:lastModifiedBy>
  <dcterms:modified xsi:type="dcterms:W3CDTF">2014-11-27T05:26:4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