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C4AC-D9B2-4D0E-969B-73CC4273A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яка Др Стіву Коу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боргованість перед бюджетом. Експерти читають сотні заявок в обмеженому ча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йві сторінки просто не читаються, а в них може бути ключова інф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 саме про поточну ситуацію, проблеми, стратегічні докумен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ект починає діяти з наступного дня після підписання контракту. Вам треба найняти працівників, а ви не можете, бо нема грошей на рахунку (бюджет), в 1й місяць вам треба поїхати у відрядження за кордон, а ви не можете, бо це зараз заборонено ще прикл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йняття бюджетників на ро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 помилки типові не лише для всіх проектних заявок, але й для інших ситуацій – студентські заявки, заявки на роботу, персональні гранти. Твердження без доказів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453-526A-4881-A5FA-DB4EC0FB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7FB-5556-4BD3-9438-2061AB8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132-EAFC-4594-B377-5A98D9AA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B9A-B660-4BB5-A870-F9960CC7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725-E489-4A50-959B-AD182C25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DE2-566B-41B3-BC11-BFA7126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043-C6A3-4C89-872C-D3E98D6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DF6-2AD4-48CA-8298-199CAD8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C4D-7EEC-448C-9E11-AC84359D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ADD-3206-4BDE-A97D-0A1EBDD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17A-368E-4856-BA3B-DC5A2F7F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9D7-6D4E-41F4-A3E8-1BACAEE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A18-5D49-4529-B7C1-BDC30C25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ідготовка успішної проектної зая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тяна Лебухо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еджер проектів, тре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4809960"/>
            <a:ext cx="2200320" cy="9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86200" y="480060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овинська агенція регіонального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ники не читають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дотримуються інструкці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077320" cy="4343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а програми, її цілі, пріорит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ритерії прийнятності (заявник, ді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меження розміру пунктів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формлення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-ть екземплярів, супровідні докум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длайн (кінцевий термі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ердження без доказ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глядають непереконли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752480"/>
            <a:ext cx="8077320" cy="4343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ишіть досвід вашої організації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ері проектної пропози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ша організація має знач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освід роботи у сфері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або деталізовані заходи (дії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гарантують досягнення впли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752480"/>
            <a:ext cx="8077320" cy="3200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івень деталізації залежить ві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ливості кожного окремого за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 загальної кількості заход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ксимального обсягу дозволе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у на результати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257800"/>
            <a:ext cx="815364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ішення приймаєте ви, але ваш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а – переконати експерті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івняння 2х твердж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324080"/>
            <a:ext cx="8229600" cy="1724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ідвищення кваліфікації персона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сцевих готелів буде проведений трені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352680"/>
            <a:ext cx="8229600" cy="3048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підвищення якості послуг готел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де проведений Х-денний тренінг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івників Y готелів. Для провед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енінгу буде залучений тренер Z , 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є досвід (…). Під час тренінгу буд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нуті так питання (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752480"/>
            <a:ext cx="8077320" cy="19814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на заявка пишеться протя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ого періоду часу (можливо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лученням кількох людей), а експе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тає проект всього кілька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200" y="3962520"/>
            <a:ext cx="7991280" cy="2438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результатах проекту написа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веб-сайт як основний ка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ширення інформації про проект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конайтесь, що ви описали веб-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заходах та бюдже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209680"/>
            <a:ext cx="7848720" cy="350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йте однакову термінологі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всьому проекті (курси/тренінг/шк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читайте всю проектну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учіть “власного експерт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плив = мета + за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0" y="14860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46708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486240"/>
            <a:ext cx="35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п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4360" y="1295280"/>
            <a:ext cx="7448760" cy="8384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 проекту – покращити навики роботи з меді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цівників 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8680" y="2276640"/>
            <a:ext cx="7839000" cy="990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плануємо провести 5-денний тренінг для на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цівників для покращення навиків роботи з меді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400560"/>
            <a:ext cx="7819920" cy="89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очікуємо, що проект вплине на покра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иків роботи з медіа наш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4240" y="351468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28680" y="4410000"/>
            <a:ext cx="7819920" cy="89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конан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що проект мати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ли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ащення навиків роботи з медіа наш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4240" y="454032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6840" y="5419800"/>
            <a:ext cx="781992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рантує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що проект мати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ли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ащення навиків роботи з медіа наших працівни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 забезпечи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лі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йбутнь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240" y="575928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лість про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95440" y="1523880"/>
            <a:ext cx="6505560" cy="4724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14440" y="3581280"/>
            <a:ext cx="609840" cy="1905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8640" y="2305080"/>
            <a:ext cx="609480" cy="3181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0036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47720" y="5410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76520" y="5410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2600" y="3162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0720" y="278136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2314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2600" y="316224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349800" y="27813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806640" y="232416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00360" y="5486400"/>
            <a:ext cx="5667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53280" y="1828800"/>
            <a:ext cx="581040" cy="3695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0292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авте себе на місце експе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1390680"/>
            <a:ext cx="8153280" cy="4857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йте можливі сп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формлення тексту (абзаци, табуляці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ділення жирним чи курсив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блична чи графічна інформ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риймається лег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к оцінює заявку експ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133344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кісна проектна заявка, складена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триманням всіх вимог та інстру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36232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а ідея, достатньо деталізов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стить переконливі аргум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2880" y="351468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понований проект буде кваліфікова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ізований та матиме значний 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4572000"/>
            <a:ext cx="8115120" cy="752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удовий проект за такі грош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5457960"/>
            <a:ext cx="8153280" cy="9522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кращий проект в моїй практиц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590400"/>
            <a:ext cx="8763120" cy="1143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ілософія успішної проектної зая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133720"/>
            <a:ext cx="7925040" cy="2438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н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и про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23800" y="181080"/>
            <a:ext cx="815364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на заявка перемог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в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81532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адова інструкція праців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и та працівника проек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3526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рівник проекту – найміть професіон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19112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heet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не просто та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50292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diem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не до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58672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дрядження за кордон, одноде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2880" y="2562120"/>
            <a:ext cx="8153280" cy="714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дбання ТМЦ, по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4296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ндери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3434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ПД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5146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іаліст по закуп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2880" y="5257800"/>
            <a:ext cx="8153280" cy="97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єстрація проекту як міжнародн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іч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4290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сність після завершення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фісні вит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3716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докремлений офі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880" y="22096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унальні по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2600" y="304812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нцелярська про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2880" y="419112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Інші вит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1040" y="50292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ксп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" y="5867280"/>
            <a:ext cx="815364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Ін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25756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ія англійською мо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880" y="315288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вноважений підпис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3800" y="4105440"/>
            <a:ext cx="815364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іональне законода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2600" y="50482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зуалізація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34316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і назви статей, одиниці вимі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 чого розпоча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42960"/>
            <a:ext cx="86104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іторинг оголошених конкурс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438280"/>
            <a:ext cx="860112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єстрація в базах даних пошуку партне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390840"/>
            <a:ext cx="862020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ь в проекті в якості партне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334040"/>
            <a:ext cx="859140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лобюджетні про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00480" y="4191120"/>
            <a:ext cx="6743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етяна Лебухо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iana.lebukhorska@bard.cv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@bard.cv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+38 050 132 03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752480"/>
            <a:ext cx="7619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Вдалих ідей 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успішних проекті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228600"/>
            <a:ext cx="8839440" cy="14479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ілософія успішної проектної заяв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фінансування від Євросою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981080"/>
            <a:ext cx="8076960" cy="1295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мета не описати хорошу проект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ідею, 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конати дати гроші в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2600" y="3429000"/>
            <a:ext cx="807696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ому повинні дати гроші вам, як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гато якісних проектних заяво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76920"/>
            <a:ext cx="8839440" cy="1542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філософія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нкурентоспромож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філософі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краща зая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457200"/>
            <a:ext cx="8077320" cy="2362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а проектної заявки повин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рияти досягненню мети програ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ка завжди вказана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рективних докумен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9000" y="3705120"/>
            <a:ext cx="3276720" cy="1752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к визначи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695760"/>
            <a:ext cx="3276720" cy="17524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457200"/>
            <a:ext cx="8077320" cy="1143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Що таке проектна заяв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828800"/>
            <a:ext cx="5638680" cy="43624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56080"/>
            <a:ext cx="609480" cy="190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7040" y="2286000"/>
            <a:ext cx="609480" cy="3181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3143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52920" y="276228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272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14800" y="314316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27622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028840" y="230508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581280"/>
            <a:ext cx="304560" cy="1892520"/>
          </a:xfrm>
          <a:custGeom>
            <a:avLst/>
            <a:gdLst>
              <a:gd name="textAreaLeft" fmla="*/ 89640 w 304560"/>
              <a:gd name="textAreaRight" fmla="*/ 304920 w 304560"/>
              <a:gd name="textAreaTop" fmla="*/ 78840 h 1892520"/>
              <a:gd name="textAreaBottom" fmla="*/ 1813680 h 18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2464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5466960"/>
            <a:ext cx="495288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86000" y="192384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4975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7840" y="5516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95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57560" y="4114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валість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6668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67080" y="1752480"/>
            <a:ext cx="45910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 повинен ма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начний вп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86440" y="3556080"/>
            <a:ext cx="609480" cy="1904760"/>
          </a:xfrm>
          <a:prstGeom prst="rect">
            <a:avLst/>
          </a:prstGeom>
          <a:gradFill rotWithShape="0">
            <a:gsLst>
              <a:gs pos="0">
                <a:srgbClr val="008000">
                  <a:alpha val="45098"/>
                </a:srgbClr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58160" y="2286000"/>
            <a:ext cx="609480" cy="3181320"/>
          </a:xfrm>
          <a:prstGeom prst="rect">
            <a:avLst/>
          </a:prstGeom>
          <a:gradFill rotWithShape="0">
            <a:gsLst>
              <a:gs pos="0">
                <a:srgbClr val="008000">
                  <a:alpha val="46274"/>
                </a:srgbClr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576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5466960"/>
            <a:ext cx="41148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03200">
            <a:off x="5352840" y="2630160"/>
            <a:ext cx="1658880" cy="457200"/>
          </a:xfrm>
          <a:prstGeom prst="rightArrow">
            <a:avLst>
              <a:gd name="adj1" fmla="val 50000"/>
              <a:gd name="adj2" fmla="val 90709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752480"/>
            <a:ext cx="38098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зна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точної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інцевої м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пособ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ягнення м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733920"/>
            <a:ext cx="350496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наліз потреб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648320"/>
            <a:ext cx="342900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наліз вплив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6248520"/>
            <a:ext cx="312408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лан заход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676520"/>
            <a:ext cx="838188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4920" y="1676520"/>
            <a:ext cx="838188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267080" y="1752480"/>
            <a:ext cx="45910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ат успішної пропози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86440" y="3556080"/>
            <a:ext cx="609480" cy="1904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286000"/>
            <a:ext cx="609840" cy="3181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576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5466960"/>
            <a:ext cx="41148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52480"/>
            <a:ext cx="388620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і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зна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де ми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ого хоче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яг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ретні к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ідтверд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64240" y="3162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02360" y="278136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216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664240" y="316224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121440" y="27813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578280" y="232416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 це в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3505320" cy="2286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286000"/>
            <a:ext cx="3810240" cy="2286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ртість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бюдж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200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9528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йкраща якість за певну су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457200"/>
            <a:ext cx="868680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ові проблеми проектних зая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3880"/>
            <a:ext cx="7238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ники не читають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отримуються інструк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0080" y="2781360"/>
            <a:ext cx="723888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ердження без доказ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глядають непереконли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09800" y="4105440"/>
            <a:ext cx="723888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 деталізовані заходи (ді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гарантують досягнення вп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9800" y="5448240"/>
            <a:ext cx="721980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Zheg</cp:lastModifiedBy>
  <dcterms:modified xsi:type="dcterms:W3CDTF">2014-11-27T05:26:4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